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73586"/>
        <c:axId val="49920445"/>
      </c:barChart>
      <c:catAx>
        <c:axId val="22073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20445"/>
        <c:crosses val="autoZero"/>
        <c:auto val="1"/>
        <c:lblAlgn val="ctr"/>
        <c:lblOffset val="100"/>
        <c:noMultiLvlLbl val="0"/>
      </c:catAx>
      <c:valAx>
        <c:axId val="49920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73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24A-2DBA-4A6E-A86A-F1CB5E8F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B9F-5F03-4E62-89DB-A3049B5F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DEA-7554-4693-AA91-FEF0CAED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DDE-33DF-40CB-9649-1065E73B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F7D-C703-416C-9FA7-40237E25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6D5-26FC-4866-A63E-87E117F9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A1F-778C-4C06-A61E-1656A12D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EEE-AA31-4F6D-A977-A4F98AF3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87D-EBF2-492B-96CD-FA814C39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61F-B7AD-499B-8728-E8E88223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C72-DB12-44FD-BF12-D983BD3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B0A7-E7E6-4095-B35A-56C9B3F4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4402B-5397-4199-875C-73C4D5690E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