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A718-ADD8-46C4-A5F0-F49A15D79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EA7E-902B-4724-A1FC-FA7899008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4CC2-0D0D-4963-A7AB-7EB3A5936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66F4-1C5C-49BA-8FD6-0EE809655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E5E2-E3AE-4407-AEFB-1AE8A711B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B9F1-EF96-47D7-9B09-F6872FB4D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FB6A-6962-4B20-87DF-F6CBD25A3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336B-2B2E-466C-9B5F-023D7317C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2890-A22F-43E4-AEB2-7B1E017A4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2EAF-0534-4C84-82BF-23A9C2933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1974-D384-4642-8B70-3E4C5BA25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2CCA-2E33-4582-BC6C-03AF1FD57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1B1BD-B61D-47FB-8AB9-1259A26DB2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Symbol, Club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‘Normal’, Play arrow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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MT Sorts, 5 point sta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Wingdings, Smile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8T10:46:03Z</dcterms:created>
  <dc:creator>Michael</dc:creator>
  <dc:description/>
  <dc:language>en-US</dc:language>
  <cp:lastModifiedBy>Michael</cp:lastModifiedBy>
  <dcterms:modified xsi:type="dcterms:W3CDTF">2004-08-18T10:49:19Z</dcterms:modified>
  <cp:revision>2</cp:revision>
  <dc:subject/>
  <dc:title>Slide 1</dc:title>
</cp:coreProperties>
</file>